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png" ContentType="image/png"/>
  <Override PartName="/ppt/media/image5.png" ContentType="image/png"/>
  <Override PartName="/ppt/media/glass.wav" ContentType="audio/x-wav"/>
  <Override PartName="/ppt/media/image10.png" ContentType="image/png"/>
  <Override PartName="/ppt/media/type.wav" ContentType="audio/x-wav"/>
  <Override PartName="/ppt/media/projctor.wav" ContentType="audio/x-wav"/>
  <Override PartName="/ppt/media/drumroll.wav" ContentType="audio/x-wav"/>
  <Override PartName="/ppt/media/cashreg.wav" ContentType="audio/x-wav"/>
  <Override PartName="/ppt/media/image13.png" ContentType="image/png"/>
  <Override PartName="/ppt/media/image11.png" ContentType="image/png"/>
  <Override PartName="/ppt/media/camera.wav" ContentType="audio/x-wav"/>
  <Override PartName="/ppt/media/explode.wav" ContentType="audio/x-wav"/>
  <Override PartName="/ppt/media/image9.png" ContentType="image/png"/>
  <Override PartName="/ppt/media/image8.png" ContentType="image/png"/>
  <Override PartName="/ppt/media/chimes.wav" ContentType="audio/x-wav"/>
  <Override PartName="/ppt/media/image1.png" ContentType="image/png"/>
  <Override PartName="/ppt/media/image7.wmf" ContentType="image/x-wmf"/>
  <Override PartName="/ppt/media/image12.png" ContentType="image/pn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527-D55D-4C39-A530-2DDB46BA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82E-862C-4B4C-AB88-70F93B90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F10-930F-4777-9444-B3FA9BF7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CDF-9D55-45B3-8783-DB1DDD44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EC3-FA75-4A1E-A6CE-3198E244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3B7-EB23-45B1-8DB8-4ADD59A1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F70-814B-4999-A823-AE3FC7C4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1E5E-8CF1-4635-985E-445EA903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83B-1113-4360-9A3B-4F81528C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D0D-2CBB-4044-8AA9-DFEC92EA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515-8DF8-4507-AD15-26FCC49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E59-03B4-4B7D-8D4C-1DAF626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81E-E02E-4E5F-9716-17E318CCC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umroll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glass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drumroll.wav"/><Relationship Id="rId6" Type="http://schemas.openxmlformats.org/officeDocument/2006/relationships/audio" Target="../media/glass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audio" Target="../media/camera.wav"/><Relationship Id="rId6" Type="http://schemas.openxmlformats.org/officeDocument/2006/relationships/audio" Target="../media/projctor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RibbonSharp"/>
          <p:cNvSpPr/>
          <p:nvPr/>
        </p:nvSpPr>
        <p:spPr>
          <a:xfrm>
            <a:off x="0" y="1844640"/>
            <a:ext cx="9144000" cy="3240000"/>
          </a:xfrm>
          <a:custGeom>
            <a:avLst/>
            <a:gdLst>
              <a:gd name="textAreaLeft" fmla="*/ 1340640 w 9144000"/>
              <a:gd name="textAreaRight" fmla="*/ 7803360 w 9144000"/>
              <a:gd name="textAreaTop" fmla="*/ 405000 h 3240000"/>
              <a:gd name="textAreaBottom" fmla="*/ 32403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867" y="0"/>
                </a:lnTo>
                <a:lnTo>
                  <a:pt x="5867" y="2700"/>
                </a:lnTo>
                <a:lnTo>
                  <a:pt x="15733" y="2700"/>
                </a:lnTo>
                <a:lnTo>
                  <a:pt x="15733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433" y="18900"/>
                </a:lnTo>
                <a:lnTo>
                  <a:pt x="18433" y="21600"/>
                </a:lnTo>
                <a:lnTo>
                  <a:pt x="3167" y="21600"/>
                </a:lnTo>
                <a:lnTo>
                  <a:pt x="3167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867" y="2700"/>
                </a:moveTo>
                <a:lnTo>
                  <a:pt x="3167" y="2700"/>
                </a:lnTo>
                <a:lnTo>
                  <a:pt x="3167" y="18900"/>
                </a:lnTo>
              </a:path>
              <a:path fill="none" w="21600" h="21600">
                <a:moveTo>
                  <a:pt x="3167" y="2700"/>
                </a:moveTo>
                <a:lnTo>
                  <a:pt x="5867" y="0"/>
                </a:lnTo>
              </a:path>
              <a:path fill="none" w="21600" h="21600">
                <a:moveTo>
                  <a:pt x="15733" y="2700"/>
                </a:moveTo>
                <a:lnTo>
                  <a:pt x="18433" y="2700"/>
                </a:lnTo>
                <a:lnTo>
                  <a:pt x="18433" y="18900"/>
                </a:lnTo>
              </a:path>
              <a:path fill="none" w="21600" h="21600">
                <a:moveTo>
                  <a:pt x="18433" y="2700"/>
                </a:moveTo>
                <a:lnTo>
                  <a:pt x="15733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000000"/>
                </a:solidFill>
                <a:latin typeface="Times New Roman"/>
                <a:cs typeface="Simplified Arabic Backslanted"/>
              </a:rPr>
              <a:t>الوسائل التعليمي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077320" y="306216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1292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077320" y="51814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77320" y="1981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9288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أقـــلام المستخدمــــة اقـــل ضـــرراً من الطباشيــــــــــ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1148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شــــــد انتبـــــــــاه الطــــــــــلاب نحـــــــــو الـــ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1814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إمكانية حفظ الشفافيات المعدة واستخدامــــــها مرات ع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9810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</a:rPr>
              <a:t>يساعـــد المعلـــم علــى إعــداد المــادة الدراسيـــة مسبقـــ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9144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يــــح للمعلــــــــــم العـــــــرض في مواجهــــة الطــــــل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nt"/>
          <p:cNvSpPr/>
          <p:nvPr/>
        </p:nvSpPr>
        <p:spPr>
          <a:xfrm>
            <a:off x="8458200" y="2133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nt"/>
          <p:cNvSpPr/>
          <p:nvPr/>
        </p:nvSpPr>
        <p:spPr>
          <a:xfrm>
            <a:off x="8458200" y="10666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nt"/>
          <p:cNvSpPr/>
          <p:nvPr/>
        </p:nvSpPr>
        <p:spPr>
          <a:xfrm>
            <a:off x="8458200" y="426708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nt"/>
          <p:cNvSpPr/>
          <p:nvPr/>
        </p:nvSpPr>
        <p:spPr>
          <a:xfrm>
            <a:off x="8458200" y="53341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24816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imes New Roman"/>
              </a:rPr>
              <a:t>عيوب جهاز عرض الشفافي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209680"/>
            <a:ext cx="769608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</a:rPr>
              <a:t>محدودية استعماله من قبل الطلاب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4572000"/>
            <a:ext cx="769608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تأثر المادة العلمية بالحرارة عند إطالة في العر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53280" y="2209680"/>
            <a:ext cx="1067040" cy="83844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153280" y="4648320"/>
            <a:ext cx="1067040" cy="83808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Music"/>
          <p:cNvSpPr/>
          <p:nvPr/>
        </p:nvSpPr>
        <p:spPr>
          <a:xfrm>
            <a:off x="8534520" y="49528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Music"/>
          <p:cNvSpPr/>
          <p:nvPr/>
        </p:nvSpPr>
        <p:spPr>
          <a:xfrm>
            <a:off x="8534520" y="2438280"/>
            <a:ext cx="304560" cy="304920"/>
          </a:xfrm>
          <a:prstGeom prst="pie">
            <a:avLst/>
          </a:prstGeom>
          <a:solidFill>
            <a:srgbClr val="ffbe7d"/>
          </a:solidFill>
          <a:ln w="9360">
            <a:solidFill>
              <a:srgbClr val="cc00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655308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جهاز عرض الأفلام الثابت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1371600"/>
            <a:ext cx="4648320" cy="1219320"/>
          </a:xfrm>
          <a:custGeom>
            <a:avLst/>
            <a:gdLst>
              <a:gd name="textAreaLeft" fmla="*/ 1060920 w 4648320"/>
              <a:gd name="textAreaRight" fmla="*/ 3587400 w 464832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40094"/>
                </a:solidFill>
                <a:latin typeface="Times New Roman"/>
                <a:cs typeface="Led Italic Font"/>
              </a:rPr>
              <a:t>مميزات جهاز عرض الأفلام الثابت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940120"/>
            <a:ext cx="6477120" cy="173988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ـــــــــل الاستخـــــــــــدام والنقـــــــــــــ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657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سهولــــة التحكــــم فــي سرعـــة العـــ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41972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ــة إضافــــــــــــة الصـــــــــــــــــو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5181480"/>
            <a:ext cx="6477120" cy="119124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إمكانيـــة إنتـــاج مـواد تعليمية بأقــل تكلف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943600"/>
            <a:ext cx="6477120" cy="1191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متعدد الاستخــدام ويشـــد انتبـــاه الطلــــا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38098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72400" y="3048120"/>
            <a:ext cx="990720" cy="64116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449568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52578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943600"/>
            <a:ext cx="990720" cy="641520"/>
          </a:xfrm>
          <a:prstGeom prst="rect">
            <a:avLst/>
          </a:prstGeom>
          <a:gradFill rotWithShape="0">
            <a:gsLst>
              <a:gs pos="0">
                <a:srgbClr val="f79135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320040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39625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46483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54100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6095880"/>
            <a:ext cx="38088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79135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7777080" cy="131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7913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imes New Roman"/>
                <a:cs typeface="Hesham Ghorn Italic"/>
              </a:rPr>
              <a:t>عيوب جهاز عرض الأفلام الثابت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8120"/>
            <a:ext cx="7391520" cy="83808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ffcc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hi-IN" sz="2800" spc="-1" strike="noStrike">
                <a:solidFill>
                  <a:srgbClr val="660033"/>
                </a:solidFill>
                <a:latin typeface="Times New Roman"/>
              </a:rPr>
              <a:t>انعدام عنصر الحركة أي عدم القدرة على توضيح حركة الأشي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4952880"/>
            <a:ext cx="73915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hi-IN" sz="3200" spc="-1" strike="noStrike">
                <a:solidFill>
                  <a:srgbClr val="660033"/>
                </a:solidFill>
                <a:latin typeface="Times New Roman"/>
              </a:rPr>
              <a:t>صعـــوبة رؤية المعلم للطلاب بسبب فقدان الضـــــــــو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9528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7320" y="3048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327672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05920" y="5181480"/>
            <a:ext cx="609480" cy="457200"/>
          </a:xfrm>
          <a:prstGeom prst="sun">
            <a:avLst>
              <a:gd name="adj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640" bIns="-266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160200"/>
            <a:ext cx="8280360" cy="1900440"/>
          </a:xfrm>
          <a:custGeom>
            <a:avLst/>
            <a:gdLst>
              <a:gd name="textAreaLeft" fmla="*/ 1656000 w 8280360"/>
              <a:gd name="textAreaRight" fmla="*/ 9936720 w 8280360"/>
              <a:gd name="textAreaTop" fmla="*/ 246240 h 1900440"/>
              <a:gd name="textAreaBottom" fmla="*/ 1654200 h 1900440"/>
            </a:gdLst>
            <a:ahLst/>
            <a:rect l="textAreaLeft" t="textAreaTop" r="textAreaRight" b="textAreaBottom"/>
            <a:pathLst>
              <a:path w="21600" h="21600">
                <a:moveTo>
                  <a:pt x="4320" y="1400"/>
                </a:moveTo>
                <a:cubicBezTo>
                  <a:pt x="9360" y="-3560"/>
                  <a:pt x="16560" y="6360"/>
                  <a:pt x="21600" y="1400"/>
                </a:cubicBezTo>
                <a:lnTo>
                  <a:pt x="17280" y="20200"/>
                </a:lnTo>
                <a:cubicBezTo>
                  <a:pt x="12240" y="25160"/>
                  <a:pt x="504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6000" spc="-1" strike="noStrike" baseline="-25000">
                <a:solidFill>
                  <a:srgbClr val="000000"/>
                </a:solidFill>
                <a:latin typeface="Times New Roman"/>
                <a:cs typeface="Simplified Arabic Backslanted"/>
              </a:rPr>
              <a:t>أنـــواع الــوسـائــل الــتعــليــميـــ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3581280"/>
            <a:ext cx="4319640" cy="16002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وسائل تعليمية سم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6320" y="4648320"/>
            <a:ext cx="2057400" cy="16761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معام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</a:rPr>
              <a:t>اللغ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2133720" cy="1600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إذاع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درس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2362320"/>
            <a:ext cx="2057400" cy="1676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شر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كاسي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4572000"/>
            <a:ext cx="2057400" cy="1676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ر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</a:rPr>
              <a:t>الشفو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27280" y="1700280"/>
            <a:ext cx="4176720" cy="1195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Times New Roman"/>
                <a:cs typeface="Simple Outline Pat"/>
              </a:rPr>
              <a:t>وسائل تعليمية بص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2514600"/>
            <a:ext cx="2133720" cy="1447920"/>
          </a:xfrm>
          <a:prstGeom prst="octagon">
            <a:avLst>
              <a:gd name="adj" fmla="val 2928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مــعـا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609480"/>
            <a:ext cx="213372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8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أجهزة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الع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90920"/>
            <a:ext cx="2133720" cy="13716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40094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الرحل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480"/>
            <a:ext cx="2057400" cy="12956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سبو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بأنواع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648320"/>
            <a:ext cx="7925040" cy="1904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plified Arabic Backslanted"/>
              </a:rPr>
              <a:t> </a:t>
            </a:r>
            <a:r>
              <a:rPr b="1" lang="hi-IN" sz="4800" spc="-1" strike="noStrike">
                <a:solidFill>
                  <a:srgbClr val="660033"/>
                </a:solidFill>
                <a:latin typeface="Times New Roman"/>
                <a:cs typeface="Simplified Arabic Backslanted"/>
              </a:rPr>
              <a:t>وسائل تعليمية سمع بصر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Times New Roman"/>
                <a:ea typeface="AdvertisingExtraBold"/>
              </a:rPr>
              <a:t>( التلفاز- الحاسب – الندوات .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3429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حديد الأهداف السلوكية للدرس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رتيب الأهداف السلوكية حسب نواتج التعليم التي تمثلها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6386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تحديد خصائص الوسائل التعليمية المطلوبة</a:t>
            </a:r>
            <a:r>
              <a:rPr b="1" lang="en-US" sz="3200" spc="-1" strike="noStrike">
                <a:solidFill>
                  <a:srgbClr val="820035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34434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1880" y="3581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59" name=""/>
          <p:cNvSpPr/>
          <p:nvPr/>
        </p:nvSpPr>
        <p:spPr>
          <a:xfrm>
            <a:off x="8077320" y="45720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56386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381880" y="4724280"/>
            <a:ext cx="487440" cy="49716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381880" y="5791320"/>
            <a:ext cx="487440" cy="496800"/>
          </a:xfrm>
          <a:prstGeom prst="rect">
            <a:avLst/>
          </a:prstGeom>
          <a:ln w="9360">
            <a:solidFill>
              <a:srgbClr val="00cc9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63" name=""/>
          <p:cNvSpPr/>
          <p:nvPr/>
        </p:nvSpPr>
        <p:spPr>
          <a:xfrm>
            <a:off x="762120" y="0"/>
            <a:ext cx="7238880" cy="1295280"/>
          </a:xfrm>
          <a:prstGeom prst="horizontalScroll">
            <a:avLst>
              <a:gd name="adj" fmla="val 12500"/>
            </a:avLst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اختيار الوسيلة التعليمية المناسبة لموقف تعليمي</a:t>
            </a:r>
            <a:r>
              <a:rPr b="1" lang="en-US" sz="3200" spc="-1" strike="noStrike">
                <a:solidFill>
                  <a:srgbClr val="940094"/>
                </a:solidFill>
                <a:latin typeface="Times New Roman"/>
                <a:ea typeface="Hesham Cortob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523880"/>
            <a:ext cx="8497800" cy="1473480"/>
          </a:xfrm>
          <a:prstGeom prst="flowChartPunchedCar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c3800"/>
                </a:solidFill>
                <a:latin typeface="Times New Roman"/>
                <a:cs typeface="AdvertisingExtraBold"/>
              </a:rPr>
              <a:t>عند اختيار وسيلة تعليمية يجب معرفة مدى تناس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مع الموقف التعلي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3800"/>
                </a:solidFill>
                <a:latin typeface="Times New Roman"/>
                <a:ea typeface="AdvertisingExtraBold"/>
              </a:rPr>
              <a:t> الذي ستستخدم فيه ، ويكون ذلك عن طر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2280"/>
            <a:ext cx="7620120" cy="8384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ـحـــلــيـــل خــصـــائـــص المــتعــلمـــــــــيــــن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تــحــديـــد خــصـــائــــص بــيــئــــة التــعـــليـــــ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8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إعــداد قائمــة بالوسائــل التعليميـة المناسبــــــة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581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تحديد المعوقات العلمية التي تؤثر في استخدام الوسائل</a:t>
            </a: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724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اختيــــــار الوسيلــــــــــة بعـــــــد الاستخ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867280"/>
            <a:ext cx="762012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تقويـــــــم الوسيلــــــــة بعــــــــد الاستخــــــــدام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367200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594360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2438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1295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1522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48769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1880" y="384660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381880" y="5065560"/>
            <a:ext cx="487440" cy="49716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487440" cy="49716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8381880" y="2590920"/>
            <a:ext cx="487440" cy="496800"/>
          </a:xfrm>
          <a:prstGeom prst="rect">
            <a:avLst/>
          </a:prstGeom>
          <a:ln w="9360">
            <a:solidFill>
              <a:srgbClr val="00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381880" y="1484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8381880" y="341280"/>
            <a:ext cx="487440" cy="496800"/>
          </a:xfrm>
          <a:prstGeom prst="rect">
            <a:avLst/>
          </a:prstGeom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p:transition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solidFill>
            <a:srgbClr val="a55207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cc99"/>
                </a:solidFill>
                <a:latin typeface="Times New Roman"/>
                <a:cs typeface="Hesham Cortoba"/>
              </a:rPr>
              <a:t>الـــسبورة الــطـبـاشـيـريــ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514600"/>
            <a:ext cx="5867640" cy="762120"/>
          </a:xfrm>
          <a:prstGeom prst="roundRect">
            <a:avLst>
              <a:gd name="adj" fmla="val 36667"/>
            </a:avLst>
          </a:prstGeom>
          <a:gradFill rotWithShape="0">
            <a:gsLst>
              <a:gs pos="0">
                <a:srgbClr val="fabb82"/>
              </a:gs>
              <a:gs pos="100000">
                <a:srgbClr val="634a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* اللــــــــوح العــــــادي ( الثابـــــت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4290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* اللـــــوح ذو الوجهيـــــن ( القلاب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343400"/>
            <a:ext cx="5867640" cy="762120"/>
          </a:xfrm>
          <a:prstGeom prst="roundRect">
            <a:avLst>
              <a:gd name="adj" fmla="val 441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لـــوح المتحـــرك مع حامـــــــــــل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5257800"/>
            <a:ext cx="5867640" cy="762120"/>
          </a:xfrm>
          <a:prstGeom prst="roundRect">
            <a:avLst>
              <a:gd name="adj" fmla="val 2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ــبــــــــــورة الحـائـطــ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6172200"/>
            <a:ext cx="5867640" cy="762120"/>
          </a:xfrm>
          <a:prstGeom prst="roundRect">
            <a:avLst>
              <a:gd name="adj" fmla="val 31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* الــسبــــــــــورة البلاسـتيـكيـــــــــــ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34320" y="25653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505320"/>
            <a:ext cx="1904760" cy="71100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439416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5257800"/>
            <a:ext cx="190476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146640"/>
            <a:ext cx="1828800" cy="711360"/>
          </a:xfrm>
          <a:prstGeom prst="rect">
            <a:avLst/>
          </a:prstGeom>
          <a:gradFill rotWithShape="0">
            <a:gsLst>
              <a:gs pos="0">
                <a:srgbClr val="fabb82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tebulb"/>
          <p:cNvSpPr/>
          <p:nvPr/>
        </p:nvSpPr>
        <p:spPr>
          <a:xfrm>
            <a:off x="7467480" y="26668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tebulb"/>
          <p:cNvSpPr/>
          <p:nvPr/>
        </p:nvSpPr>
        <p:spPr>
          <a:xfrm>
            <a:off x="7467480" y="365760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tebulb"/>
          <p:cNvSpPr/>
          <p:nvPr/>
        </p:nvSpPr>
        <p:spPr>
          <a:xfrm>
            <a:off x="7467480" y="4495680"/>
            <a:ext cx="76212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tebulb"/>
          <p:cNvSpPr/>
          <p:nvPr/>
        </p:nvSpPr>
        <p:spPr>
          <a:xfrm>
            <a:off x="7467480" y="53341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tebulb"/>
          <p:cNvSpPr/>
          <p:nvPr/>
        </p:nvSpPr>
        <p:spPr>
          <a:xfrm>
            <a:off x="7467480" y="6248520"/>
            <a:ext cx="762120" cy="5331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1295280"/>
            <a:ext cx="6324480" cy="914400"/>
          </a:xfrm>
          <a:custGeom>
            <a:avLst/>
            <a:gdLst>
              <a:gd name="textAreaLeft" fmla="*/ 1443600 w 6324480"/>
              <a:gd name="textAreaRight" fmla="*/ 4880880 w 63244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أنواع السبورة الطباش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76320"/>
            <a:ext cx="822960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lin ang="108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Hesham Cortob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Hesham Cortoba"/>
              </a:rPr>
              <a:t>قواعد استخدام السبورة الطباشي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58672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ستخدام نوع جيد من الطباشير وبألوان متعدد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8006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عدم الوقوف أمام السبور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73392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اختصار قدر الإمكان في المعلومات المكتوي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666880"/>
            <a:ext cx="7543800" cy="83844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</a:rPr>
              <a:t>الكتابة بخط واضح في خطوط مستقيمة وبشكل منظم ومنس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600200"/>
            <a:ext cx="7543800" cy="838080"/>
          </a:xfrm>
          <a:prstGeom prst="flowChartPreparation">
            <a:avLst/>
          </a:prstGeom>
          <a:gradFill rotWithShape="0">
            <a:gsLst>
              <a:gs pos="0">
                <a:srgbClr val="755e2f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الاهتمام بنظافة السبور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17524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28195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8620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4952880"/>
            <a:ext cx="1066680" cy="53352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19920"/>
            <a:ext cx="1066680" cy="533160"/>
          </a:xfrm>
          <a:prstGeom prst="flowChartDecision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ree"/>
          <p:cNvSpPr/>
          <p:nvPr/>
        </p:nvSpPr>
        <p:spPr>
          <a:xfrm>
            <a:off x="8153280" y="182880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ree"/>
          <p:cNvSpPr/>
          <p:nvPr/>
        </p:nvSpPr>
        <p:spPr>
          <a:xfrm>
            <a:off x="8153280" y="2895480"/>
            <a:ext cx="381240" cy="304920"/>
          </a:xfr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ree"/>
          <p:cNvSpPr/>
          <p:nvPr/>
        </p:nvSpPr>
        <p:spPr>
          <a:xfrm>
            <a:off x="8153280" y="3962520"/>
            <a:ext cx="381240" cy="30456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ree"/>
          <p:cNvSpPr/>
          <p:nvPr/>
        </p:nvSpPr>
        <p:spPr>
          <a:xfrm>
            <a:off x="8153280" y="502920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ree"/>
          <p:cNvSpPr/>
          <p:nvPr/>
        </p:nvSpPr>
        <p:spPr>
          <a:xfrm>
            <a:off x="8153280" y="6095880"/>
            <a:ext cx="381240" cy="304920"/>
          </a:xfr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  <a:cs typeface="Hesham Gornata"/>
              </a:rPr>
              <a:t>الــسبـورة الـطـبـاشـيـريـ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352680"/>
            <a:ext cx="647676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قلة التكاليف وسهولة الاستــــــــمال والن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4419720"/>
            <a:ext cx="6476760" cy="1068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تتيح للطلاب متابعة المادة الدراسية وتفصيلاتـ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5334120"/>
            <a:ext cx="6476760" cy="1068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تكسب المعلم والطالب مهارة الكتابة والرســــــ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1676520"/>
            <a:ext cx="4267080" cy="1371600"/>
          </a:xfrm>
          <a:prstGeom prst="irregularSeal1">
            <a:avLst/>
          </a:prstGeom>
          <a:gradFill rotWithShape="0">
            <a:gsLst>
              <a:gs pos="0">
                <a:srgbClr val="c5c5c5"/>
              </a:gs>
              <a:gs pos="100000">
                <a:srgbClr val="ffcc6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40094"/>
                </a:solidFill>
                <a:latin typeface="Times New Roman"/>
                <a:cs typeface="Hesham Cortoba"/>
              </a:rPr>
              <a:t>مميزات السبورة الطباشير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335268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4343400"/>
            <a:ext cx="990720" cy="6415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772400" y="5333400"/>
            <a:ext cx="990720" cy="64116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ound"/>
          <p:cNvSpPr/>
          <p:nvPr/>
        </p:nvSpPr>
        <p:spPr>
          <a:xfrm flipH="1">
            <a:off x="8077320" y="342900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ound"/>
          <p:cNvSpPr/>
          <p:nvPr/>
        </p:nvSpPr>
        <p:spPr>
          <a:xfrm flipH="1">
            <a:off x="8077320" y="441972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ound"/>
          <p:cNvSpPr/>
          <p:nvPr/>
        </p:nvSpPr>
        <p:spPr>
          <a:xfrm flipH="1">
            <a:off x="8077320" y="5410080"/>
            <a:ext cx="304560" cy="457200"/>
          </a:xfrm>
          <a:prstGeom prst="pie">
            <a:avLst/>
          </a:prstGeom>
          <a:solidFill>
            <a:srgbClr val="00cc99"/>
          </a:solidFill>
          <a:ln w="9360">
            <a:solidFill>
              <a:srgbClr val="ccff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gradFill rotWithShape="0">
            <a:gsLst>
              <a:gs pos="0">
                <a:srgbClr val="a5520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PT Bold Mirror"/>
              </a:rPr>
              <a:t> </a:t>
            </a:r>
            <a:r>
              <a:rPr b="1" lang="hi-IN" sz="5400" spc="-1" strike="noStrike">
                <a:solidFill>
                  <a:srgbClr val="000000"/>
                </a:solidFill>
                <a:latin typeface="Times New Roman"/>
                <a:cs typeface="Hesham AlSharq"/>
              </a:rPr>
              <a:t>جــهـاز عــرض الـشـفـافـيـ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371600"/>
            <a:ext cx="5867280" cy="1447920"/>
          </a:xfrm>
          <a:custGeom>
            <a:avLst/>
            <a:gdLst>
              <a:gd name="textAreaLeft" fmla="*/ 1690200 w 5867280"/>
              <a:gd name="textAreaRight" fmla="*/ 4177080 w 5867280"/>
              <a:gd name="textAreaTop" fmla="*/ 416880 h 1447920"/>
              <a:gd name="textAreaBottom" fmla="*/ 10310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45" y="12035"/>
                </a:lnTo>
                <a:lnTo>
                  <a:pt x="786" y="14846"/>
                </a:lnTo>
                <a:lnTo>
                  <a:pt x="5370" y="14326"/>
                </a:lnTo>
                <a:lnTo>
                  <a:pt x="3163" y="18437"/>
                </a:lnTo>
                <a:lnTo>
                  <a:pt x="7180" y="16167"/>
                </a:lnTo>
                <a:lnTo>
                  <a:pt x="6580" y="20741"/>
                </a:lnTo>
                <a:lnTo>
                  <a:pt x="9454" y="17133"/>
                </a:lnTo>
                <a:lnTo>
                  <a:pt x="10800" y="21600"/>
                </a:lnTo>
                <a:lnTo>
                  <a:pt x="12035" y="17155"/>
                </a:lnTo>
                <a:lnTo>
                  <a:pt x="14846" y="20814"/>
                </a:lnTo>
                <a:lnTo>
                  <a:pt x="14326" y="16230"/>
                </a:lnTo>
                <a:lnTo>
                  <a:pt x="18437" y="18437"/>
                </a:lnTo>
                <a:lnTo>
                  <a:pt x="16167" y="14420"/>
                </a:lnTo>
                <a:lnTo>
                  <a:pt x="20741" y="15020"/>
                </a:lnTo>
                <a:lnTo>
                  <a:pt x="17133" y="12146"/>
                </a:lnTo>
                <a:lnTo>
                  <a:pt x="21600" y="10800"/>
                </a:lnTo>
                <a:lnTo>
                  <a:pt x="17155" y="9565"/>
                </a:lnTo>
                <a:lnTo>
                  <a:pt x="20814" y="6754"/>
                </a:lnTo>
                <a:lnTo>
                  <a:pt x="16230" y="7274"/>
                </a:lnTo>
                <a:lnTo>
                  <a:pt x="18437" y="3163"/>
                </a:lnTo>
                <a:lnTo>
                  <a:pt x="14420" y="5433"/>
                </a:lnTo>
                <a:lnTo>
                  <a:pt x="15020" y="859"/>
                </a:lnTo>
                <a:lnTo>
                  <a:pt x="12146" y="4467"/>
                </a:lnTo>
                <a:lnTo>
                  <a:pt x="10800" y="0"/>
                </a:lnTo>
                <a:lnTo>
                  <a:pt x="9565" y="4445"/>
                </a:lnTo>
                <a:lnTo>
                  <a:pt x="6754" y="786"/>
                </a:lnTo>
                <a:lnTo>
                  <a:pt x="7274" y="5370"/>
                </a:lnTo>
                <a:lnTo>
                  <a:pt x="3163" y="3163"/>
                </a:lnTo>
                <a:lnTo>
                  <a:pt x="5433" y="7180"/>
                </a:lnTo>
                <a:lnTo>
                  <a:pt x="859" y="6580"/>
                </a:lnTo>
                <a:lnTo>
                  <a:pt x="4467" y="94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79135"/>
              </a:gs>
              <a:gs pos="100000">
                <a:srgbClr val="71421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</a:rPr>
              <a:t>مميزات جهاز عرض الشفاف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048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سهــــــولة إنتــــاج شفافيـــات متنوعـــة في وقت قصيـــ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191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ســـــمـــح للمـعلـــــم التحكــــم في خطــــوات الـــــــــدر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334120"/>
            <a:ext cx="7620120" cy="838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75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</a:rPr>
              <a:t>يــــعــــمــــل فــــــــي الإضــــــــاءة العــــــــــاديــــــــــــــــ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3124080"/>
            <a:ext cx="1066680" cy="82404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91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5334120"/>
            <a:ext cx="1066680" cy="8236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nt"/>
          <p:cNvSpPr/>
          <p:nvPr/>
        </p:nvSpPr>
        <p:spPr>
          <a:xfrm>
            <a:off x="8458200" y="327672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nt"/>
          <p:cNvSpPr/>
          <p:nvPr/>
        </p:nvSpPr>
        <p:spPr>
          <a:xfrm>
            <a:off x="8458200" y="4343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nt"/>
          <p:cNvSpPr/>
          <p:nvPr/>
        </p:nvSpPr>
        <p:spPr>
          <a:xfrm>
            <a:off x="8458200" y="5486400"/>
            <a:ext cx="304920" cy="457200"/>
          </a:xfrm>
          <a:prstGeom prst="pie">
            <a:avLst/>
          </a:prstGeom>
          <a:solidFill>
            <a:srgbClr val="008000"/>
          </a:solidFill>
          <a:ln w="9360">
            <a:solidFill>
              <a:srgbClr val="ccff66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5:14:40Z</dcterms:created>
  <dc:creator>Ahmed</dc:creator>
  <dc:description/>
  <dc:language>en-US</dc:language>
  <cp:lastModifiedBy>Ahmed</cp:lastModifiedBy>
  <dcterms:modified xsi:type="dcterms:W3CDTF">2008-10-01T05:19:51Z</dcterms:modified>
  <cp:revision>5</cp:revision>
  <dc:subject/>
  <dc:title>Slide 1</dc:title>
</cp:coreProperties>
</file>